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5.jpeg" ContentType="image/jpeg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29.wmf" ContentType="image/x-wmf"/>
  <Override PartName="/ppt/media/image1.png" ContentType="image/png"/>
  <Override PartName="/ppt/media/image19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36.jpeg" ContentType="image/jpeg"/>
  <Override PartName="/ppt/media/image17.jpeg" ContentType="image/jpeg"/>
  <Override PartName="/ppt/media/image45.wmf" ContentType="image/x-wmf"/>
  <Override PartName="/ppt/media/image26.wmf" ContentType="image/x-wmf"/>
  <Override PartName="/ppt/media/image46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41.jpeg" ContentType="image/jpeg"/>
  <Override PartName="/ppt/media/image33.jpeg" ContentType="image/jpeg"/>
  <Override PartName="/ppt/media/image6.jpeg" ContentType="image/jpeg"/>
  <Override PartName="/ppt/media/image3.jpeg" ContentType="image/jpeg"/>
  <Override PartName="/ppt/media/image28.wmf" ContentType="image/x-wmf"/>
  <Override PartName="/ppt/media/image10.png" ContentType="image/png"/>
  <Override PartName="/ppt/media/image47.png" ContentType="image/png"/>
  <Override PartName="/ppt/media/image49.jpeg" ContentType="image/jpeg"/>
  <Override PartName="/ppt/media/image34.wmf" ContentType="image/x-wmf"/>
  <Override PartName="/ppt/media/image42.wmf" ContentType="image/x-wmf"/>
  <Override PartName="/ppt/media/image43.jpeg" ContentType="image/jpeg"/>
  <Override PartName="/ppt/media/image44.wmf" ContentType="image/x-wmf"/>
  <Override PartName="/ppt/media/image40.wmf" ContentType="image/x-wmf"/>
  <Override PartName="/ppt/media/image48.jpeg" ContentType="image/jpeg"/>
  <Override PartName="/ppt/media/image31.wmf" ContentType="image/x-wmf"/>
  <Override PartName="/ppt/media/image38.jpeg" ContentType="image/jpeg"/>
  <Override PartName="/ppt/media/image39.wmf" ContentType="image/x-wmf"/>
  <Override PartName="/ppt/media/image5.wmf" ContentType="image/x-wmf"/>
  <Override PartName="/ppt/media/image35.wmf" ContentType="image/x-wmf"/>
  <Override PartName="/ppt/media/image9.jpeg" ContentType="image/jpeg"/>
  <Override PartName="/ppt/media/image11.jpeg" ContentType="image/jpeg"/>
  <Override PartName="/ppt/media/image8.wmf" ContentType="image/x-wmf"/>
  <Override PartName="/ppt/media/image27.jpeg" ContentType="image/jpeg"/>
  <Override PartName="/ppt/media/image50.jpeg" ContentType="image/jpeg"/>
  <Override PartName="/ppt/media/image13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30.jpeg" ContentType="image/jpeg"/>
  <Override PartName="/ppt/media/image37.wmf" ContentType="image/x-wmf"/>
  <Override PartName="/ppt/media/image23.jpeg" ContentType="image/jpe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dt" idx="25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ftr" idx="26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 type="sldNum" idx="27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F325-7486-490E-8A27-9D2DC36F5CFD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87804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S INTERNACIONALES AGRICOLAS: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XPORTACIONES DE PAPRIKA SIGUEN AUMENTAN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uando muchos pensábamos que la producción de páprika había alcanzado su techo, los volúmenes exportados vienen aumentando mes tras mes y los valores unitarios (FOB) alcanzan niveles que no se registraban desde el año 200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on datos hasta el 20 de mayo, las exportaciones alcanzan las 11 mil toneladas, faltando 4 mil para igualar las cifras de los años 2002 y 2003. De mantenerse esta situación, podríamos cerrar el año con 20 mil toneladas exportadas y superar los US$ 30 mill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7547-7192-49BC-9606-401A0270F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23CF-716C-46FA-85A7-6890B3F7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2A9A-DCF6-4AA5-8562-61DA76E7F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A425-6321-43C6-A2A8-62B2CDF66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57FC-2878-4704-909F-6CAEAEE31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E8FF-607E-4B79-B4D4-B959019E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E80C-046F-444C-90BF-ECD840FC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0869-2EBC-4611-BD9A-062CF41B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EBC2-B167-40A9-B3D8-4ED2B16A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929C-F727-4757-8105-9172F9D8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1FF2-B8DB-4CB4-8B26-A7BB9C67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68F5-18B9-4A98-BB68-46940F15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202A-B076-4F60-9763-FDBAE2DF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F3CA-96F9-419E-98CF-7DA2B089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836A-1813-4DFE-80F6-2D78DD68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2521-A48F-43E3-AA1B-F88400BF8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B6995-5872-4787-885A-8A69853A2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9D1F2-3BC2-400A-A7C8-6AB5E18C8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A2D97-7073-4768-BFD1-48A6BB4D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A5356-5126-42EA-9DAD-DA74744E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1F540-6129-45F1-8D14-7F7D4E2E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D9616-9CF2-4298-9A8D-61873316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913B-1F85-4D18-AA0F-3AD534A2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AFC90-E23C-44FE-BF64-E3ACEA86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6F93D-0270-4794-BAC4-E76BC821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B89C2-A4BF-4F67-8410-4E027B2F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F7E89-CB7F-41C4-B4FE-95850906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4CFB1-295A-4295-9B22-1269A3D2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7569E-C51D-44DD-ADAA-2B07461DA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E4AA5-2A0B-4E80-84DA-5DDC55F4E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74538-0C0C-4F0A-89B7-234B267DD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7EDFD-44B4-41A1-9F86-BEE974AE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3654D-117F-4993-8601-1527F8C4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7716-7B4F-4111-BC13-2D148FFF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A51BE-84E5-4524-8F84-9BF23F9B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C4457-E649-46B1-BB68-099D315C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3AC85-6EA3-4DE9-B098-3B00D90B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409E3-DD9A-41BF-A627-865084EF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668AD-F543-488B-8A4D-3B8A5A5E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BF90A-54EF-4DFB-922D-6A120CA9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9DB52-4BED-46AA-85A2-27E8118D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9B6F3-F1E3-41A6-A34A-A3FB6B3C3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D42F8-1D00-47CA-BBFD-C47FBFB14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E51AF-5D3A-4DC2-A9EF-2205B9B72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72BB-F383-40FE-B736-40FF362A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1D7ED-E6D4-4135-8919-393D398A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B4DD6-0DF2-4729-A434-DEF9C0FC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176DA-1AD8-49FC-B376-C2537A8D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46CCF-80CB-408F-9BD6-979B6808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CD8A1-C9A2-4759-839B-17319B53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E3029-85AF-495F-9ACD-3D56679D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6839A-9742-484A-8EA2-25A3A8D8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4B358-3F29-412F-A7A2-28F3581B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22271-2536-4F6B-8551-A29B79BF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3210E-DBB6-4F87-AD52-66FEDA400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FFC4-65E2-48D1-8C9B-62C985C0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30F67-8639-4B8D-BD34-A748F81D1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9270C-9096-41E2-ADB3-BB3402117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F41EC-2841-4137-ADB8-1F919547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A7AF1-7C03-47C1-A760-C64F131A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35864-BEF7-45E9-B908-08CD847E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CE233-C5E6-4CBE-B1D1-1FC1E0E5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587F4-5B8A-410F-8CC6-B535EC56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CA7BE-8E18-4E5A-B857-E54AA489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59EF4-6A9E-4587-A143-58DF4C70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F5C65-7FB7-4C96-8251-DB7A8096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5450-4EAC-4B5A-BA46-9BEF2284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A4944-9DDD-4195-B96C-7C41531B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9F048-0C3B-451D-A39B-240464DAA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299CC-0805-49FF-BFED-0C9070AD2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D6170-726D-4CC6-84E3-22D144285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253FC-8A63-428A-A27B-FA285DBB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3B8CF-8197-4590-9AC8-38BA7807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7F57B-19EE-4EC8-92E5-83DA18CCB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54259-17CF-4EF4-81A5-BAF64EF1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6FDC8-92EC-4BB0-A3F5-E62D94F3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52799-C659-403F-9DBD-31193DA1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8D71-579C-4FFA-9826-91208DDE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8F093-DABB-42D4-851A-C8AEB318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6FEEB-ED5B-41ED-8B5A-1322BB2F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627FF-748C-4F31-886D-B0F02115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86291-A144-49D8-9ECC-C87513E79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AD5C1-980C-42AB-B2AB-C59D305AF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F9405-0B75-47C5-A161-DD0C230D9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45D11-205B-41AB-A717-EAF75F59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EDBC0-7E63-4959-AB92-F001AA07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02990-4153-4D99-8F6F-94901CF1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22DED-7CF5-4EA9-BB84-DAFA819B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5B64-8D90-4E57-9B72-AA100FA6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8507D-2D30-43C3-B584-DA52834A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27E81-EF8C-405E-97B0-5EFF79F1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923CD-12A9-4837-9D92-48C1F393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E8C85-5AF7-4741-B253-2525A813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BCCCC-503B-48A7-A212-4120662A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F3831-A861-4C18-99D9-358CAA0B8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EF58C-F271-40DC-BDC6-82D034AB5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6512-B906-4043-9461-89D1046FA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17B7-2F27-4D57-9396-4C3BFCE63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A4A7-8423-4D49-8DB8-7E56CDB76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0B99-3C6C-4437-9035-240C08E99B9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E8CE-168B-4871-86BE-382406A44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E771-32C7-42B6-BDCC-AB28CF5A7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A620-8D94-4087-A954-ED47A539A36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C217-0296-474A-BECE-F153B5B70F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270828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CAJAMAR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692360" y="115920"/>
            <a:ext cx="745164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UZCO: RECAUDACION POR VENTA DE BOLETOS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002 – jul 2004 (en miles de nuevos sol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91080" y="914400"/>
            <a:ext cx="8994240" cy="5843160"/>
            <a:chOff x="91080" y="914400"/>
            <a:chExt cx="8994240" cy="5843160"/>
          </a:xfrm>
        </p:grpSpPr>
        <p:sp>
          <p:nvSpPr>
            <p:cNvPr id="449" name=""/>
            <p:cNvSpPr/>
            <p:nvPr/>
          </p:nvSpPr>
          <p:spPr>
            <a:xfrm>
              <a:off x="91080" y="6237360"/>
              <a:ext cx="225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OFEC-CUS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50" name=""/>
            <p:cNvGraphicFramePr/>
            <p:nvPr/>
          </p:nvGraphicFramePr>
          <p:xfrm>
            <a:off x="162000" y="914400"/>
            <a:ext cx="8923320" cy="538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2000" y="914400"/>
                      <a:ext cx="8923320" cy="538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0" y="900000"/>
            <a:ext cx="9158400" cy="5959440"/>
            <a:chOff x="0" y="900000"/>
            <a:chExt cx="9158400" cy="5959440"/>
          </a:xfrm>
        </p:grpSpPr>
        <p:graphicFrame>
          <p:nvGraphicFramePr>
            <p:cNvPr id="454" name=""/>
            <p:cNvGraphicFramePr/>
            <p:nvPr/>
          </p:nvGraphicFramePr>
          <p:xfrm>
            <a:off x="0" y="900000"/>
            <a:ext cx="9158400" cy="564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5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00000"/>
                      <a:ext cx="9158400" cy="564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6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835280" y="157320"/>
            <a:ext cx="7235640" cy="65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USCO: PASAJEROS EMBARCADOS EN VUEL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0" y="836640"/>
            <a:ext cx="9055080" cy="5913360"/>
            <a:chOff x="0" y="836640"/>
            <a:chExt cx="9055080" cy="5913360"/>
          </a:xfrm>
        </p:grpSpPr>
        <p:graphicFrame>
          <p:nvGraphicFramePr>
            <p:cNvPr id="462" name=""/>
            <p:cNvGraphicFramePr/>
            <p:nvPr/>
          </p:nvGraphicFramePr>
          <p:xfrm>
            <a:off x="0" y="836640"/>
            <a:ext cx="9055080" cy="5427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6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9055080" cy="54277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464" name=""/>
            <p:cNvSpPr/>
            <p:nvPr/>
          </p:nvSpPr>
          <p:spPr>
            <a:xfrm>
              <a:off x="0" y="638172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1655640" y="122400"/>
            <a:ext cx="7093080" cy="70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UNO: PASAJEROS EMBARCADOS EN VUEL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0" y="944640"/>
            <a:ext cx="9158400" cy="5914800"/>
            <a:chOff x="0" y="944640"/>
            <a:chExt cx="9158400" cy="5914800"/>
          </a:xfrm>
        </p:grpSpPr>
        <p:graphicFrame>
          <p:nvGraphicFramePr>
            <p:cNvPr id="470" name=""/>
            <p:cNvGraphicFramePr/>
            <p:nvPr/>
          </p:nvGraphicFramePr>
          <p:xfrm>
            <a:off x="0" y="944640"/>
            <a:ext cx="9158400" cy="5397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7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44640"/>
                      <a:ext cx="9158400" cy="539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2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2050920" y="82440"/>
            <a:ext cx="687564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MADRE DE DIOS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0" y="1079640"/>
            <a:ext cx="9158400" cy="5663880"/>
            <a:chOff x="0" y="1079640"/>
            <a:chExt cx="9158400" cy="5663880"/>
          </a:xfrm>
        </p:grpSpPr>
        <p:graphicFrame>
          <p:nvGraphicFramePr>
            <p:cNvPr id="478" name=""/>
            <p:cNvGraphicFramePr/>
            <p:nvPr/>
          </p:nvGraphicFramePr>
          <p:xfrm>
            <a:off x="0" y="1079640"/>
            <a:ext cx="9158400" cy="5132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7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79640"/>
                      <a:ext cx="9158400" cy="513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0" name=""/>
            <p:cNvSpPr/>
            <p:nvPr/>
          </p:nvSpPr>
          <p:spPr>
            <a:xfrm>
              <a:off x="0" y="637524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1908000" y="237960"/>
            <a:ext cx="7236000" cy="38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AJAMARCA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92000" y="144000"/>
            <a:ext cx="7380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FE POR PRINCIPALES DEPARTAMENTOS 1990-2003 (Miles TM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41400" y="915840"/>
            <a:ext cx="9200880" cy="5899680"/>
            <a:chOff x="41400" y="915840"/>
            <a:chExt cx="9200880" cy="5899680"/>
          </a:xfrm>
        </p:grpSpPr>
        <p:graphicFrame>
          <p:nvGraphicFramePr>
            <p:cNvPr id="488" name=""/>
            <p:cNvGraphicFramePr/>
            <p:nvPr/>
          </p:nvGraphicFramePr>
          <p:xfrm>
            <a:off x="249120" y="915840"/>
            <a:ext cx="8993160" cy="5596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9120" y="915840"/>
                      <a:ext cx="8993160" cy="559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0" name=""/>
            <p:cNvSpPr/>
            <p:nvPr/>
          </p:nvSpPr>
          <p:spPr>
            <a:xfrm>
              <a:off x="41400" y="6356520"/>
              <a:ext cx="200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2050920" y="-171360"/>
            <a:ext cx="6877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CAF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-1800" y="969840"/>
            <a:ext cx="9145800" cy="5785200"/>
            <a:chOff x="-1800" y="969840"/>
            <a:chExt cx="9145800" cy="5785200"/>
          </a:xfrm>
        </p:grpSpPr>
        <p:sp>
          <p:nvSpPr>
            <p:cNvPr id="493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l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94" name=""/>
            <p:cNvGraphicFramePr/>
            <p:nvPr/>
          </p:nvGraphicFramePr>
          <p:xfrm>
            <a:off x="0" y="969840"/>
            <a:ext cx="9144000" cy="53690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9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69840"/>
                      <a:ext cx="9144000" cy="536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050920" y="75960"/>
            <a:ext cx="684216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CAFE: EXPORTACION NACIONAL (QQ) Y PRECIOS PROMEDIO (US$ / QQ) AÑOS 1960 –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-36360" y="1190520"/>
            <a:ext cx="9194760" cy="5569920"/>
            <a:chOff x="-36360" y="1190520"/>
            <a:chExt cx="9194760" cy="5569920"/>
          </a:xfrm>
        </p:grpSpPr>
        <p:graphicFrame>
          <p:nvGraphicFramePr>
            <p:cNvPr id="500" name=""/>
            <p:cNvGraphicFramePr/>
            <p:nvPr/>
          </p:nvGraphicFramePr>
          <p:xfrm>
            <a:off x="73080" y="1190520"/>
            <a:ext cx="9085320" cy="5340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3080" y="1190520"/>
                      <a:ext cx="9085320" cy="534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2" name=""/>
            <p:cNvSpPr/>
            <p:nvPr/>
          </p:nvSpPr>
          <p:spPr>
            <a:xfrm>
              <a:off x="-36360" y="6423120"/>
              <a:ext cx="27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Fuente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0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835280" y="-30240"/>
            <a:ext cx="685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Verdana"/>
              </a:rPr>
              <a:t>Exportaciones Peruanas de Café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1960 – 2003 en Q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115920" y="1058760"/>
          <a:ext cx="8999640" cy="541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920" y="1058760"/>
                    <a:ext cx="8999640" cy="54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8" name=""/>
          <p:cNvGrpSpPr/>
          <p:nvPr/>
        </p:nvGrpSpPr>
        <p:grpSpPr>
          <a:xfrm>
            <a:off x="7667640" y="4581360"/>
            <a:ext cx="1817640" cy="1440000"/>
            <a:chOff x="7667640" y="4581360"/>
            <a:chExt cx="1817640" cy="1440000"/>
          </a:xfrm>
        </p:grpSpPr>
        <p:sp>
          <p:nvSpPr>
            <p:cNvPr id="509" name=""/>
            <p:cNvSpPr/>
            <p:nvPr/>
          </p:nvSpPr>
          <p:spPr>
            <a:xfrm>
              <a:off x="7885080" y="479736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Cafés </a:t>
              </a:r>
              <a:br>
                <a:rPr sz="1200"/>
              </a:b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Especial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667640" y="4581360"/>
              <a:ext cx="1341360" cy="1440000"/>
            </a:xfrm>
            <a:prstGeom prst="ellipse">
              <a:avLst/>
            </a:prstGeom>
            <a:noFill/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-6480" y="6575400"/>
            <a:ext cx="25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Cámara Peruana de Café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979640" y="0"/>
            <a:ext cx="716436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EXPORTACION DE PAPRIKA EN KG Y PRECIOS REFERENCIALES FOB US$/KG AÑOS 2002, 2003 Y 2004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117360" y="915840"/>
            <a:ext cx="8966160" cy="5895360"/>
            <a:chOff x="117360" y="915840"/>
            <a:chExt cx="8966160" cy="5895360"/>
          </a:xfrm>
        </p:grpSpPr>
        <p:graphicFrame>
          <p:nvGraphicFramePr>
            <p:cNvPr id="518" name=""/>
            <p:cNvGraphicFramePr/>
            <p:nvPr/>
          </p:nvGraphicFramePr>
          <p:xfrm>
            <a:off x="117360" y="915840"/>
            <a:ext cx="8966160" cy="5337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7360" y="915840"/>
                      <a:ext cx="8966160" cy="533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0" name=""/>
            <p:cNvSpPr/>
            <p:nvPr/>
          </p:nvSpPr>
          <p:spPr>
            <a:xfrm>
              <a:off x="136440" y="6504120"/>
              <a:ext cx="534996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ADEX – ADUANAS           *Datos hasta jul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342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4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l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2340000" y="-171360"/>
            <a:ext cx="658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PAPRIKA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-1800" y="914400"/>
            <a:ext cx="9122040" cy="5840640"/>
            <a:chOff x="-1800" y="914400"/>
            <a:chExt cx="9122040" cy="5840640"/>
          </a:xfrm>
        </p:grpSpPr>
        <p:sp>
          <p:nvSpPr>
            <p:cNvPr id="523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l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24" name=""/>
            <p:cNvGraphicFramePr/>
            <p:nvPr/>
          </p:nvGraphicFramePr>
          <p:xfrm>
            <a:off x="82440" y="914400"/>
            <a:ext cx="9037800" cy="5462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2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2440" y="914400"/>
                      <a:ext cx="9037800" cy="546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52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79640" y="-162360"/>
            <a:ext cx="70214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LCACHOFA EN CONSERV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1999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0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2002, 2003 Y 2004*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38120" y="58294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-2520" y="1039680"/>
            <a:ext cx="9002160" cy="5801040"/>
            <a:chOff x="-2520" y="1039680"/>
            <a:chExt cx="9002160" cy="5801040"/>
          </a:xfrm>
        </p:grpSpPr>
        <p:graphicFrame>
          <p:nvGraphicFramePr>
            <p:cNvPr id="531" name=""/>
            <p:cNvGraphicFramePr/>
            <p:nvPr/>
          </p:nvGraphicFramePr>
          <p:xfrm>
            <a:off x="0" y="1039680"/>
            <a:ext cx="8999640" cy="5197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3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39680"/>
                      <a:ext cx="8999640" cy="519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3" name=""/>
            <p:cNvSpPr/>
            <p:nvPr/>
          </p:nvSpPr>
          <p:spPr>
            <a:xfrm>
              <a:off x="71640" y="6262560"/>
              <a:ext cx="207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EX - </a:t>
              </a: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 A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-2520" y="6564240"/>
              <a:ext cx="184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</a:rPr>
                <a:t>(*) Preliminar hasta Juli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35" name="" descr=""/>
          <p:cNvPicPr/>
          <p:nvPr/>
        </p:nvPicPr>
        <p:blipFill>
          <a:blip r:embed="rId4"/>
          <a:stretch/>
        </p:blipFill>
        <p:spPr>
          <a:xfrm>
            <a:off x="7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123640" y="11556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ERU: EXPORTACION DE MANTECA DE CACAO  POR PAIS DE DESTINO EN TM AÑOS 1998 – 2003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34640" y="1033560"/>
            <a:ext cx="8921880" cy="5816880"/>
            <a:chOff x="134640" y="1033560"/>
            <a:chExt cx="8921880" cy="5816880"/>
          </a:xfrm>
        </p:grpSpPr>
        <p:graphicFrame>
          <p:nvGraphicFramePr>
            <p:cNvPr id="539" name=""/>
            <p:cNvGraphicFramePr/>
            <p:nvPr/>
          </p:nvGraphicFramePr>
          <p:xfrm>
            <a:off x="160200" y="1033560"/>
            <a:ext cx="8896320" cy="5232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4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200" y="1033560"/>
                      <a:ext cx="8896320" cy="523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1" name=""/>
            <p:cNvSpPr/>
            <p:nvPr/>
          </p:nvSpPr>
          <p:spPr>
            <a:xfrm>
              <a:off x="134640" y="6573960"/>
              <a:ext cx="200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Verdana"/>
                </a:rPr>
                <a:t>Fuente: ADUANAS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4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79280" y="43920"/>
            <a:ext cx="70930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CACAO EN GRANO: PRECIO NACIONAL EN CHACRA Y PRECIO INTERNACIONAL (US$ / LIBRA) AÑOS 1993 –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440" y="836640"/>
            <a:ext cx="9112320" cy="6154920"/>
            <a:chOff x="1440" y="836640"/>
            <a:chExt cx="9112320" cy="6154920"/>
          </a:xfrm>
        </p:grpSpPr>
        <p:graphicFrame>
          <p:nvGraphicFramePr>
            <p:cNvPr id="546" name=""/>
            <p:cNvGraphicFramePr/>
            <p:nvPr/>
          </p:nvGraphicFramePr>
          <p:xfrm>
            <a:off x="1440" y="836640"/>
            <a:ext cx="9112320" cy="5472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4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440" y="836640"/>
                      <a:ext cx="9112320" cy="547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8" name=""/>
            <p:cNvSpPr/>
            <p:nvPr/>
          </p:nvSpPr>
          <p:spPr>
            <a:xfrm>
              <a:off x="1440" y="6107040"/>
              <a:ext cx="181908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Fuentes: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Precio Internacional : ICC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Precio Nacional : MINAG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3664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PERU: ABASTECIMIENTO DE LECHE</a:t>
            </a:r>
            <a:br>
              <a:rPr sz="18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1993-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34920" y="773280"/>
            <a:ext cx="9112320" cy="6311160"/>
            <a:chOff x="34920" y="773280"/>
            <a:chExt cx="9112320" cy="6311160"/>
          </a:xfrm>
        </p:grpSpPr>
        <p:graphicFrame>
          <p:nvGraphicFramePr>
            <p:cNvPr id="555" name=""/>
            <p:cNvGraphicFramePr/>
            <p:nvPr/>
          </p:nvGraphicFramePr>
          <p:xfrm>
            <a:off x="34920" y="773280"/>
            <a:ext cx="9112320" cy="5673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73280"/>
                      <a:ext cx="9112320" cy="567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7" name=""/>
            <p:cNvSpPr/>
            <p:nvPr/>
          </p:nvSpPr>
          <p:spPr>
            <a:xfrm>
              <a:off x="178560" y="6564240"/>
              <a:ext cx="250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 / 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835280" y="-90720"/>
            <a:ext cx="730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RODUCCION NACIONAL DE LECHE POR PRINCIPALES DEPARTAMENTOS   1990 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1440" y="907920"/>
            <a:ext cx="9156960" cy="5923800"/>
            <a:chOff x="1440" y="907920"/>
            <a:chExt cx="9156960" cy="5923800"/>
          </a:xfrm>
        </p:grpSpPr>
        <p:graphicFrame>
          <p:nvGraphicFramePr>
            <p:cNvPr id="562" name=""/>
            <p:cNvGraphicFramePr/>
            <p:nvPr/>
          </p:nvGraphicFramePr>
          <p:xfrm>
            <a:off x="1440" y="907920"/>
            <a:ext cx="9156960" cy="5413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40" y="907920"/>
                      <a:ext cx="9156960" cy="541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4" name=""/>
            <p:cNvSpPr/>
            <p:nvPr/>
          </p:nvSpPr>
          <p:spPr>
            <a:xfrm>
              <a:off x="178560" y="6524640"/>
              <a:ext cx="1465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"/>
          <p:cNvGrpSpPr/>
          <p:nvPr/>
        </p:nvGrpSpPr>
        <p:grpSpPr>
          <a:xfrm>
            <a:off x="3960" y="765000"/>
            <a:ext cx="9140040" cy="6092280"/>
            <a:chOff x="3960" y="765000"/>
            <a:chExt cx="9140040" cy="6092280"/>
          </a:xfrm>
        </p:grpSpPr>
        <p:sp>
          <p:nvSpPr>
            <p:cNvPr id="566" name=""/>
            <p:cNvSpPr/>
            <p:nvPr/>
          </p:nvSpPr>
          <p:spPr>
            <a:xfrm>
              <a:off x="3960" y="6519960"/>
              <a:ext cx="158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67" name=""/>
            <p:cNvGraphicFramePr/>
            <p:nvPr/>
          </p:nvGraphicFramePr>
          <p:xfrm>
            <a:off x="31680" y="1262160"/>
            <a:ext cx="9033120" cy="5214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6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1680" y="1262160"/>
                      <a:ext cx="9033120" cy="521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9" name=""/>
            <p:cNvSpPr/>
            <p:nvPr/>
          </p:nvSpPr>
          <p:spPr>
            <a:xfrm>
              <a:off x="7391520" y="765000"/>
              <a:ext cx="1752480" cy="1067040"/>
            </a:xfrm>
            <a:prstGeom prst="flowChartAlternateProcess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058600" y="85572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T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380360" y="105408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Variación 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244000" y="1054080"/>
              <a:ext cx="90000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1,203,88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1,213,74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&gt; 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692000" y="-162360"/>
            <a:ext cx="6551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ECHE: PRODUCCION NACIONAL (TM) Y</a:t>
            </a: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RECIOS ESTABLO (US$ / KG) ene 02 – jul  0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124000" y="-171720"/>
            <a:ext cx="65628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APA: Precios y volúmenes suministrados al Mercado Mayorista de Lima 2002, 2003 y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-5760" y="836640"/>
            <a:ext cx="9282960" cy="6023880"/>
            <a:chOff x="-5760" y="836640"/>
            <a:chExt cx="9282960" cy="6023880"/>
          </a:xfrm>
        </p:grpSpPr>
        <p:sp>
          <p:nvSpPr>
            <p:cNvPr id="578" name=""/>
            <p:cNvSpPr/>
            <p:nvPr/>
          </p:nvSpPr>
          <p:spPr>
            <a:xfrm>
              <a:off x="-5760" y="6340320"/>
              <a:ext cx="2642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NOTA:  Precio de Papa Blanc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EMMS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79" name=""/>
            <p:cNvGraphicFramePr/>
            <p:nvPr/>
          </p:nvGraphicFramePr>
          <p:xfrm>
            <a:off x="0" y="1052640"/>
            <a:ext cx="9277200" cy="5329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8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52640"/>
                      <a:ext cx="9277200" cy="532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1" name=""/>
            <p:cNvSpPr/>
            <p:nvPr/>
          </p:nvSpPr>
          <p:spPr>
            <a:xfrm>
              <a:off x="7362720" y="836640"/>
              <a:ext cx="175284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974720" y="91296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T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315200" y="114156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Variación 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380080" y="1081080"/>
              <a:ext cx="73548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80,95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62,86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&lt; 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8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1600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Cajamarc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50920" y="864720"/>
            <a:ext cx="8820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aina de Tara 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OUTH AMERICAN TANNING CORP SAC, CEDEPAS - ACOPIADORES LOCALES,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TRASFORMADORA AGRICOLA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Polvo de Tara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SOCIACION CIVIL "TIERRA" MOLINO SAN MARCOS, AGRO EXPORT CAJAMARCA S.A.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ng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ITESA SRL, EMPRESA DE PRODUCTORES DE MANGO EL PLATANAR SR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Frijol Alubi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MISION DE REGANTES MAGDALENA,  CARE - AGRICULTORES CONDEBAMBA,  ASOCIACION BENEFICA PRISM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,  CARE - CAJAMAR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Lentej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DRA PROD. LENTEJA CAJABAMB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 - LA LIBERTAD,  AGRONEGOCIOS Y CONSULTORES SRL,  CEDEPAS CAJAMARCA - PRODUCTORES 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Ques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PRODUCTOS LACTEOS LOS PINOS SRL,  ASOCIACION DE PRODUCTORES LACTEOS LOS CAMPESINO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EMPRESA DE ALIMENTOS HUACAR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dera Aserradas y Rolliza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OPERATIVA AGRARIA JERUSALEN - ADEF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adenas de Or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HARPAS SA,  DE ORO S.A.,  AUX S.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Textile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MERICAN TRADING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3780000" y="60930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35192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9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3" dur="50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7" dur="500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1" dur="500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5" dur="500"/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500"/>
                            </p:stCondLst>
                            <p:childTnLst>
                              <p:par>
                                <p:cTn id="39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9" dur="500"/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000"/>
                            </p:stCondLst>
                            <p:childTnLst>
                              <p:par>
                                <p:cTn id="40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3" dur="500"/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500"/>
                            </p:stCondLst>
                            <p:childTnLst>
                              <p:par>
                                <p:cTn id="40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7" dur="500"/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4000"/>
                            </p:stCondLst>
                            <p:childTnLst>
                              <p:par>
                                <p:cTn id="40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1" dur="500"/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4500"/>
                            </p:stCondLst>
                            <p:childTnLst>
                              <p:par>
                                <p:cTn id="41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5" dur="500"/>
                                        <p:tgtEl>
                                          <p:spTgt spid="5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0"/>
                            </p:stCondLst>
                            <p:childTnLst>
                              <p:par>
                                <p:cTn id="4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5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60320" y="84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 ORO</a:t>
            </a:r>
            <a:br>
              <a:rPr sz="2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Cadenas de Oro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871640" y="2116080"/>
            <a:ext cx="5399280" cy="3845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168120" y="838080"/>
            <a:ext cx="8967960" cy="6021720"/>
            <a:chOff x="168120" y="838080"/>
            <a:chExt cx="8967960" cy="6021720"/>
          </a:xfrm>
        </p:grpSpPr>
        <p:sp>
          <p:nvSpPr>
            <p:cNvPr id="348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49" name=""/>
            <p:cNvGraphicFramePr/>
            <p:nvPr/>
          </p:nvGraphicFramePr>
          <p:xfrm>
            <a:off x="182520" y="838080"/>
            <a:ext cx="89535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2520" y="838080"/>
                      <a:ext cx="89535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5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26920" y="9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SOCIACION CIVIL “TIERRA” MOLINO SAN MARCOS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Tara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1403280" y="2276640"/>
            <a:ext cx="6553440" cy="33350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228600" y="2997360"/>
            <a:ext cx="8915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  <a:ea typeface="Arial"/>
              </a:rPr>
              <a:t>¡Sí se pued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358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59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"/>
          <p:cNvGrpSpPr/>
          <p:nvPr/>
        </p:nvGrpSpPr>
        <p:grpSpPr>
          <a:xfrm>
            <a:off x="14400" y="1104840"/>
            <a:ext cx="9053280" cy="5566680"/>
            <a:chOff x="14400" y="1104840"/>
            <a:chExt cx="9053280" cy="5566680"/>
          </a:xfrm>
        </p:grpSpPr>
        <p:graphicFrame>
          <p:nvGraphicFramePr>
            <p:cNvPr id="362" name=""/>
            <p:cNvGraphicFramePr/>
            <p:nvPr/>
          </p:nvGraphicFramePr>
          <p:xfrm>
            <a:off x="133200" y="1104840"/>
            <a:ext cx="8934480" cy="5295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3200" y="1104840"/>
                      <a:ext cx="8934480" cy="529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4" name=""/>
            <p:cNvSpPr/>
            <p:nvPr/>
          </p:nvSpPr>
          <p:spPr>
            <a:xfrm>
              <a:off x="14400" y="6364440"/>
              <a:ext cx="470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Fuente: ADEX – PROMPEX - ADUANAS - MINAG - BC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1979640" y="44280"/>
            <a:ext cx="7164360" cy="72612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ERU: PRINCIPALES IMPORTACIONES AGROPECUARIAS  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- 2004 (Millones US$ CIF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0" y="907920"/>
          <a:ext cx="8972640" cy="554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07920"/>
                    <a:ext cx="8972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-5040" y="6340320"/>
            <a:ext cx="213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n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411280" y="-76680"/>
            <a:ext cx="627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ORO POR PRINCIPALES EMPRESAS 1991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VOLUCION DEL PRECIO DEL ORO </a:t>
            </a:r>
            <a:br>
              <a:rPr sz="20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Ene 97 – Ago 04  (US$/OZ.TRO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-2160" y="990720"/>
            <a:ext cx="9241560" cy="5893200"/>
            <a:chOff x="-2160" y="990720"/>
            <a:chExt cx="9241560" cy="5893200"/>
          </a:xfrm>
        </p:grpSpPr>
        <p:sp>
          <p:nvSpPr>
            <p:cNvPr id="378" name=""/>
            <p:cNvSpPr/>
            <p:nvPr/>
          </p:nvSpPr>
          <p:spPr>
            <a:xfrm>
              <a:off x="-2160" y="6576840"/>
              <a:ext cx="33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LONDON METAL EXCHANG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79" name=""/>
            <p:cNvGraphicFramePr/>
            <p:nvPr/>
          </p:nvGraphicFramePr>
          <p:xfrm>
            <a:off x="76320" y="990720"/>
            <a:ext cx="9163080" cy="48196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3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990720"/>
                      <a:ext cx="9163080" cy="481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1" name=""/>
            <p:cNvSpPr/>
            <p:nvPr/>
          </p:nvSpPr>
          <p:spPr>
            <a:xfrm>
              <a:off x="929160" y="1285920"/>
              <a:ext cx="801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1997           1998          1999            2000           2001           2002           2003         200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2712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STRUCTURA DEL VALOR AGREGADO DE LA MIN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127320" y="466560"/>
            <a:ext cx="1463760" cy="235080"/>
          </a:xfrm>
          <a:custGeom>
            <a:avLst/>
            <a:gdLst>
              <a:gd name="textAreaLeft" fmla="*/ 228600 w 1463760"/>
              <a:gd name="textAreaRight" fmla="*/ 1280880 w 1463760"/>
              <a:gd name="textAreaTop" fmla="*/ 58680 h 235080"/>
              <a:gd name="textAreaBottom" fmla="*/ 176400 h 23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7c80">
              <a:alpha val="5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641920" y="466560"/>
            <a:ext cx="1463760" cy="235080"/>
          </a:xfrm>
          <a:custGeom>
            <a:avLst/>
            <a:gdLst>
              <a:gd name="textAreaLeft" fmla="*/ 228600 w 1463760"/>
              <a:gd name="textAreaRight" fmla="*/ 1280880 w 1463760"/>
              <a:gd name="textAreaTop" fmla="*/ 58680 h 235080"/>
              <a:gd name="textAreaBottom" fmla="*/ 176400 h 23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519640" y="282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(-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166520" y="260280"/>
            <a:ext cx="6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(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63640" cy="46836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-720" y="746280"/>
            <a:ext cx="9179640" cy="6337440"/>
            <a:chOff x="-720" y="746280"/>
            <a:chExt cx="9179640" cy="6337440"/>
          </a:xfrm>
        </p:grpSpPr>
        <p:sp>
          <p:nvSpPr>
            <p:cNvPr id="389" name=""/>
            <p:cNvSpPr/>
            <p:nvPr/>
          </p:nvSpPr>
          <p:spPr>
            <a:xfrm>
              <a:off x="0" y="4002120"/>
              <a:ext cx="9144000" cy="2855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0" y="1554120"/>
              <a:ext cx="18288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2.- Insum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(Reactivos, bolas d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acero, explosivos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28800" y="1554120"/>
              <a:ext cx="18288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Import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657600" y="1554120"/>
              <a:ext cx="18288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Sustitu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de importacion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486400" y="1554120"/>
              <a:ext cx="36576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Exportación de insum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0" y="2362320"/>
              <a:ext cx="18288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3.- Maquinar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(Carros mineros, celda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de flotación, molinos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28800" y="2362320"/>
              <a:ext cx="18288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Importad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Reparación loc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57600" y="2362320"/>
              <a:ext cx="18288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Producción baj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licencias par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ercados loc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486400" y="2362320"/>
              <a:ext cx="36576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Exportación de maquinar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0" y="3170160"/>
              <a:ext cx="1828800" cy="80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4.- Ingenierí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y consultorí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849320" y="3184560"/>
              <a:ext cx="1828800" cy="807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Importad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299360" y="3182760"/>
              <a:ext cx="1844640" cy="80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Export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57600" y="3182760"/>
              <a:ext cx="3657600" cy="80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Nacional (salvo especialidade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42721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463860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0" y="53737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0" y="574056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0" y="610704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0" y="500544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-720" y="4040280"/>
              <a:ext cx="112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5.- Entorn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9560" y="4368960"/>
              <a:ext cx="756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Energía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9200" y="5079960"/>
              <a:ext cx="747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Puerto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0280" y="5433840"/>
              <a:ext cx="976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Urbanismo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8840" y="5815080"/>
              <a:ext cx="7660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Vialidad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9560" y="6181560"/>
              <a:ext cx="994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Educación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07160" y="4356000"/>
              <a:ext cx="18072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28800" y="4272120"/>
              <a:ext cx="0" cy="22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01600" y="4292640"/>
              <a:ext cx="61059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G. Electrógenos            C. Hidroeléctricas             Interconexión eléctrica nacional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8840" y="4699080"/>
              <a:ext cx="564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Agua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657600" y="4272120"/>
              <a:ext cx="0" cy="258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486400" y="4272120"/>
              <a:ext cx="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69200" y="4660920"/>
              <a:ext cx="48898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Sist. de bombeo                                   Redes de agua regional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920960" y="5027760"/>
              <a:ext cx="50911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Puertos múltiples                             Puertos mineros especializado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022480" y="5384880"/>
              <a:ext cx="7121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Campamentos              Desarrollos urbanos                        Integración urbana regional  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06520" y="5751360"/>
              <a:ext cx="595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Trochas                   Carreteras afirmadas                      Integración vial nacional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21400" y="6118200"/>
              <a:ext cx="6645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Capacit. Laboral             Escuelas técnicas                          Universidades especializada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324480" y="5373720"/>
              <a:ext cx="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324480" y="5740560"/>
              <a:ext cx="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324480" y="6107040"/>
              <a:ext cx="0" cy="7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0" y="746280"/>
              <a:ext cx="18288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1.- Produ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Miner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28800" y="746280"/>
              <a:ext cx="18288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iner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657600" y="746280"/>
              <a:ext cx="18288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Concentr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486400" y="746280"/>
              <a:ext cx="36576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etales refin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828800" y="746280"/>
              <a:ext cx="0" cy="6111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920" y="64483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9960" y="6507000"/>
              <a:ext cx="13694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Medio Ambiente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72360" y="6197760"/>
              <a:ext cx="277164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Mejoramiento (revegetación,                                                                                                reforestación, etc.)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050920" y="6522480"/>
              <a:ext cx="3924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Impacto negativo           Mínimo impacto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332000" y="155520"/>
            <a:ext cx="7315200" cy="8240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441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42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4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9-06T15:18:03Z</dcterms:modified>
  <cp:revision>1179</cp:revision>
  <dc:subject/>
  <dc:title>Sin título de diapositiva</dc:title>
</cp:coreProperties>
</file>