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5.jpeg" ContentType="image/jpeg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29.wmf" ContentType="image/x-wmf"/>
  <Override PartName="/ppt/media/image1.png" ContentType="image/png"/>
  <Override PartName="/ppt/media/image19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36.jpeg" ContentType="image/jpeg"/>
  <Override PartName="/ppt/media/image17.jpeg" ContentType="image/jpeg"/>
  <Override PartName="/ppt/media/image4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3.jpeg" ContentType="image/jpeg"/>
  <Override PartName="/ppt/media/image28.wmf" ContentType="image/x-wmf"/>
  <Override PartName="/ppt/media/image10.png" ContentType="image/png"/>
  <Override PartName="/ppt/media/image47.png" ContentType="image/png"/>
  <Override PartName="/ppt/media/image49.jpeg" ContentType="image/jpeg"/>
  <Override PartName="/ppt/media/image34.wmf" ContentType="image/x-wmf"/>
  <Override PartName="/ppt/media/image42.wmf" ContentType="image/x-wmf"/>
  <Override PartName="/ppt/media/image43.jpeg" ContentType="image/jpeg"/>
  <Override PartName="/ppt/media/image44.wmf" ContentType="image/x-wmf"/>
  <Override PartName="/ppt/media/image40.wmf" ContentType="image/x-wmf"/>
  <Override PartName="/ppt/media/image48.jpeg" ContentType="image/jpeg"/>
  <Override PartName="/ppt/media/image31.wmf" ContentType="image/x-wmf"/>
  <Override PartName="/ppt/media/image38.jpeg" ContentType="image/jpeg"/>
  <Override PartName="/ppt/media/image39.wmf" ContentType="image/x-wmf"/>
  <Override PartName="/ppt/media/image5.wmf" ContentType="image/x-wmf"/>
  <Override PartName="/ppt/media/image35.wmf" ContentType="image/x-wmf"/>
  <Override PartName="/ppt/media/image9.jpeg" ContentType="image/jpeg"/>
  <Override PartName="/ppt/media/image11.jpeg" ContentType="image/jpeg"/>
  <Override PartName="/ppt/media/image8.wmf" ContentType="image/x-wmf"/>
  <Override PartName="/ppt/media/image27.jpeg" ContentType="image/jpeg"/>
  <Override PartName="/ppt/media/image50.jpeg" ContentType="image/jpeg"/>
  <Override PartName="/ppt/media/image13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30.jpeg" ContentType="image/jpeg"/>
  <Override PartName="/ppt/media/image37.wmf" ContentType="image/x-wmf"/>
  <Override PartName="/ppt/media/image23.jpeg" ContentType="image/jpe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6636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87768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932940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774960" y="932940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P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7C5B-5B7A-46BC-A932-6A2FB6C41537}" type="slidenum"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87804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84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CADOS INTERNACIONALES AGRICOLAS: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EXPORTACIONES DE PAPRIKA SIGUEN AUMENTAN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uando muchos pensábamos que la producción de páprika había alcanzado su techo, los volúmenes exportados vienen aumentando mes tras mes y los valores unitarios (FOB) alcanzan niveles que no se registraban desde el año 200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 datos hasta el 20 de mayo, las exportaciones alcanzan las 11 mil toneladas, faltando 4 mil para igualar las cifras de los años 2002 y 2003. De mantenerse esta situación, podríamos cerrar el año con 20 mil toneladas exportadas y superar los US$ 30 mill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876240" y="52704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761760" y="7086240"/>
            <a:ext cx="488628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rtaciones Agropecuari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6640" y="7539120"/>
            <a:ext cx="4949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0CE1-A5BB-47F7-AE98-C519040E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FEFC-CAD5-482E-9BBA-2B39D1F35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786B-E6A3-4CCD-BF78-6579DA30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B51-021E-4672-843D-FF950C7A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F84F-F424-4D2C-893E-2C3FA3CD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992B-B745-4268-9AC4-C4CF88DB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7BDB-10EE-4964-A25A-759D58B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58CB-5253-4CCD-B91D-705298EE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80AA-C839-458F-9C0F-8A75BD0D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80F5-D8CA-4F00-9796-7A5FF4B9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BC0B-EA69-41CC-9951-8C7C79F8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D47-94E5-4B93-B411-A20B41F2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D641-73B9-4DCC-87F5-01550FA3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DD36-5E1D-4AB8-B4F7-29DC69C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E858D-864B-4A5B-B3C1-B83ABCC6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DDF3-7630-49A6-9FC9-3A1B9D40C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6D5B-1116-445C-BD03-774CDFB1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9DA15-9666-42BE-A7C3-E2F3C126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A6149-1271-4B1C-80FC-3C04DB38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5690-B6A4-4FEC-95E6-43A8A3C7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3FC35-D82E-4438-A0B6-BD7C1AD0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EC069-6AB5-45E4-A22D-FF8BD70D4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22C-0934-4D86-B524-1EDE299C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BA7B2-C7BF-4573-B674-ED77324F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B970F-41EE-4CBB-B2EE-75E0608C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8C527-65B0-40BB-A76B-621EB098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F5E23-87CD-415E-A251-34DAE046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4D0A8-F96C-4C31-8531-87342CA3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4034C-B262-4257-A09B-506E3EC52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3CB6A-E286-4A85-A2C5-A5A6E067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AEF95-1DB4-4D88-BA53-B9AD6991A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33E01-D220-4B22-8C59-D6799539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724F1-CB63-4112-8C57-E5526787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F181-5E62-4CA0-A8E6-A148454F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A7D39-1DE0-4F7B-8EE4-A7EB3169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06AAC-F167-47A0-AB13-8D2EB4F7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58DC-1316-4B6C-A396-21BE7F5C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A8CC2-F41E-420A-9873-C764B7E4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94729-8D24-4CEC-B1FF-FB41C78C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096B-5CE6-4E27-A3C4-BAA68A3D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9C0FD-85C9-4440-B4C6-4C432C50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D87DE-3177-4079-A52A-850655549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B2CB-BE2A-4C99-916B-8123AC6D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17605-8566-452D-BBE5-F248AE01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FA4-A288-4FE4-88A7-588A823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846EC-F508-4128-9702-E71FB9FD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A5ACE-7850-4826-87E9-81FA64DE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AC9EB-29AD-431B-812D-9E78FEB0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1EE86-4FA4-4724-BE15-D7890A2D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0D79E-1B3B-4142-9A74-2E1F99D4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4B5F1-CEE1-4E90-849E-B3A11809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645F0-5B63-40C2-8597-8168E147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051A-A998-4559-B369-4436DBDB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D9ACE-06BE-4933-9A94-265353CA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0D2D6-61A5-4F0F-8DA8-10CBE8E3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175-AED3-4E8C-BA1E-2DF394D7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728B8-ADC6-45B9-A2A1-01A1D307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19D82-FFDB-4AF9-80A3-485AA02F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5A93F-5449-44C7-8078-02023BE6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8D99C-0335-4F39-8DBD-5D0F0C15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8B9A8-9AD5-40C6-95FA-5A8FF895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B099F-24E2-4494-BEFE-27CCA012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EF173-6E48-4B25-9E2D-BB875053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C42024-92BC-4239-BB1E-82D34C30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5E05B-E752-44A5-9F46-D2DB69CC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4627C-F26B-4089-91DD-E4716704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E9C0-8B63-4648-986A-266F878C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39973-6437-49FE-9D11-B7CC4B5C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4D6AD-4376-4718-AD9D-D9200293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60E3D-BEC7-43C0-9D89-FA28AF97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E39CB-95A3-460C-BD74-23046B362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571E5-8E6C-41E6-8D29-4C6731BA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1FE44-A333-42EA-92DD-783FA490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869B3-30EB-4BC0-BD5E-461CCE64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1DF0B-898E-447C-BD72-E9B4DD97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D30F1-7F9A-41E3-BF6E-104A4CE6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3870C-87DB-44D0-9DF1-21CCAB4C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31B1-4B80-49C2-82E7-B98BA202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B2D90-B7BC-48BC-AACB-66D12F53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6D9AF-8983-4684-806A-194CADB5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4A490-0905-4F94-BA5F-BB9994D4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25F1B-5E9C-45AD-9C5F-A80AF0D7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FB218-8307-432D-B764-666BF5A7E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119B5-37DD-42CF-9E54-01300E91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6545D-6FBF-4289-9E9E-F7AC9A83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5FEF5-3792-4394-B5E0-83EB849E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62BC4-4775-4967-896E-6BD1DCD7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87F6B-CEEB-442D-B2EA-DE39DE32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4832-6E65-4BF7-9348-092F6E12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8A054-CC35-4988-8CD9-B0806376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40477-08FA-421D-82E6-3AF0DBD1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4FBCB-36D5-4E5F-9D7A-D5BA7A0B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E7C79-6586-4612-9434-C79B47F0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A86C8-79D6-4729-99E5-234ECBA52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EF2784-7890-4539-A7EF-6D66946A9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5EEEB-C74C-4925-AC99-453D3588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8CB0B-1AAF-4859-B670-F8235D296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640" y="609120"/>
            <a:ext cx="503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05E8-5C48-4B2B-BD77-90A7B42F8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42C7-4EB6-49F1-9351-7663C6D00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D10C0-0248-4BE8-B886-A330B0F8B2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AB53-5A91-4D39-B390-1F45CB39B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5712-AE0C-436B-BA6E-6F4B0B1A8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CBE8-14DB-48DB-8492-A731270AEB9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FA60-608A-4D92-8AB3-EFFC205F49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270828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CAJAMAR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Oportunidades de Negoci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dentro del Marco del TLC c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Verdana"/>
              </a:rPr>
              <a:t>Estados Un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287360"/>
            <a:ext cx="8762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inform</a:t>
            </a:r>
            <a:r>
              <a:rPr b="1" i="1" lang="es-MX" sz="4000" spc="-1" strike="noStrike">
                <a:solidFill>
                  <a:srgbClr val="ff0000"/>
                </a:solidFill>
                <a:latin typeface="Times New Roman"/>
              </a:rPr>
              <a:t>@</a:t>
            </a:r>
            <a:r>
              <a:rPr b="1" i="1" lang="es-MX" sz="4000" spc="-1" strike="noStrike">
                <a:solidFill>
                  <a:srgbClr val="ffffff"/>
                </a:solidFill>
                <a:latin typeface="Times New Roman"/>
              </a:rPr>
              <a:t>c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516640"/>
            <a:ext cx="4800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00"/>
                </a:solidFill>
                <a:latin typeface="Arial"/>
              </a:rPr>
              <a:t>www.informaccion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1692360" y="115920"/>
            <a:ext cx="7451640" cy="67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CUZCO: RECAUDACION POR VENTA DE BOLETOS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002 – jul 2004 (en miles de nuevos sole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1080" y="914400"/>
            <a:ext cx="8994240" cy="5843160"/>
            <a:chOff x="91080" y="914400"/>
            <a:chExt cx="8994240" cy="5843160"/>
          </a:xfrm>
        </p:grpSpPr>
        <p:sp>
          <p:nvSpPr>
            <p:cNvPr id="449" name=""/>
            <p:cNvSpPr/>
            <p:nvPr/>
          </p:nvSpPr>
          <p:spPr>
            <a:xfrm>
              <a:off x="91080" y="6237360"/>
              <a:ext cx="225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OFEC-CUS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50" name=""/>
            <p:cNvGraphicFramePr/>
            <p:nvPr/>
          </p:nvGraphicFramePr>
          <p:xfrm>
            <a:off x="162000" y="914400"/>
            <a:ext cx="8923320" cy="5383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62000" y="914400"/>
                      <a:ext cx="8923320" cy="538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900000"/>
            <a:ext cx="9158400" cy="5959440"/>
            <a:chOff x="0" y="900000"/>
            <a:chExt cx="9158400" cy="5959440"/>
          </a:xfrm>
        </p:grpSpPr>
        <p:graphicFrame>
          <p:nvGraphicFramePr>
            <p:cNvPr id="454" name=""/>
            <p:cNvGraphicFramePr/>
            <p:nvPr/>
          </p:nvGraphicFramePr>
          <p:xfrm>
            <a:off x="0" y="900000"/>
            <a:ext cx="915840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00000"/>
                      <a:ext cx="915840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835280" y="157320"/>
            <a:ext cx="7235640" cy="65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USCO: PASAJEROS EMBARCADOS EN VUE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0" y="836640"/>
            <a:ext cx="9055080" cy="5913360"/>
            <a:chOff x="0" y="836640"/>
            <a:chExt cx="9055080" cy="5913360"/>
          </a:xfrm>
        </p:grpSpPr>
        <p:graphicFrame>
          <p:nvGraphicFramePr>
            <p:cNvPr id="462" name=""/>
            <p:cNvGraphicFramePr/>
            <p:nvPr/>
          </p:nvGraphicFramePr>
          <p:xfrm>
            <a:off x="0" y="836640"/>
            <a:ext cx="9055080" cy="5427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9055080" cy="54277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64" name=""/>
            <p:cNvSpPr/>
            <p:nvPr/>
          </p:nvSpPr>
          <p:spPr>
            <a:xfrm>
              <a:off x="0" y="638172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>
            <a:off x="1655640" y="122400"/>
            <a:ext cx="7093080" cy="70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UNO: PASAJEROS EMBARCADOS EN VUE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0" y="944640"/>
            <a:ext cx="9158400" cy="5914800"/>
            <a:chOff x="0" y="944640"/>
            <a:chExt cx="9158400" cy="5914800"/>
          </a:xfrm>
        </p:grpSpPr>
        <p:graphicFrame>
          <p:nvGraphicFramePr>
            <p:cNvPr id="470" name=""/>
            <p:cNvGraphicFramePr/>
            <p:nvPr/>
          </p:nvGraphicFramePr>
          <p:xfrm>
            <a:off x="0" y="944640"/>
            <a:ext cx="9158400" cy="5397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44640"/>
                      <a:ext cx="9158400" cy="539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72" name=""/>
            <p:cNvSpPr/>
            <p:nvPr/>
          </p:nvSpPr>
          <p:spPr>
            <a:xfrm>
              <a:off x="0" y="649116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050920" y="82440"/>
            <a:ext cx="687564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MADRE DE DIOS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684360" y="3068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0" y="1079640"/>
            <a:ext cx="9158400" cy="5663880"/>
            <a:chOff x="0" y="1079640"/>
            <a:chExt cx="9158400" cy="5663880"/>
          </a:xfrm>
        </p:grpSpPr>
        <p:graphicFrame>
          <p:nvGraphicFramePr>
            <p:cNvPr id="478" name=""/>
            <p:cNvGraphicFramePr/>
            <p:nvPr/>
          </p:nvGraphicFramePr>
          <p:xfrm>
            <a:off x="0" y="1079640"/>
            <a:ext cx="9158400" cy="5132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79640"/>
                      <a:ext cx="9158400" cy="51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0" y="6375240"/>
              <a:ext cx="2835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ffffff"/>
                  </a:solidFill>
                  <a:latin typeface="Arial"/>
                </a:rPr>
                <a:t>Fuente: Corpa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1908000" y="237960"/>
            <a:ext cx="7236000" cy="38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CAJAMARCA: PASAJEROS EMBARCADOS EN VUELOS N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144000"/>
            <a:ext cx="7380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PRODUCCION DE CAFE POR PRINCIPALES DEPARTAMENTOS 1990-2003 (Miles TM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1400" y="915840"/>
            <a:ext cx="9200880" cy="5899680"/>
            <a:chOff x="41400" y="915840"/>
            <a:chExt cx="9200880" cy="5899680"/>
          </a:xfrm>
        </p:grpSpPr>
        <p:graphicFrame>
          <p:nvGraphicFramePr>
            <p:cNvPr id="488" name=""/>
            <p:cNvGraphicFramePr/>
            <p:nvPr/>
          </p:nvGraphicFramePr>
          <p:xfrm>
            <a:off x="249120" y="915840"/>
            <a:ext cx="8993160" cy="5596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9120" y="915840"/>
                      <a:ext cx="8993160" cy="559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0" name=""/>
            <p:cNvSpPr/>
            <p:nvPr/>
          </p:nvSpPr>
          <p:spPr>
            <a:xfrm>
              <a:off x="41400" y="6356520"/>
              <a:ext cx="2009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Elaboración: inform@c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050920" y="-171360"/>
            <a:ext cx="6877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CAF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-1800" y="969840"/>
            <a:ext cx="9145800" cy="5785200"/>
            <a:chOff x="-1800" y="969840"/>
            <a:chExt cx="9145800" cy="5785200"/>
          </a:xfrm>
        </p:grpSpPr>
        <p:sp>
          <p:nvSpPr>
            <p:cNvPr id="49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94" name=""/>
            <p:cNvGraphicFramePr/>
            <p:nvPr/>
          </p:nvGraphicFramePr>
          <p:xfrm>
            <a:off x="0" y="969840"/>
            <a:ext cx="9144000" cy="5369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69840"/>
                      <a:ext cx="9144000" cy="536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050920" y="75960"/>
            <a:ext cx="684216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CAFE: EXPORTACION NACIONAL (QQ) Y PRECIOS PROMEDIO (US$ / QQ) AÑOS 1960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-36360" y="1190520"/>
            <a:ext cx="9194760" cy="5569920"/>
            <a:chOff x="-36360" y="1190520"/>
            <a:chExt cx="9194760" cy="5569920"/>
          </a:xfrm>
        </p:grpSpPr>
        <p:graphicFrame>
          <p:nvGraphicFramePr>
            <p:cNvPr id="500" name=""/>
            <p:cNvGraphicFramePr/>
            <p:nvPr/>
          </p:nvGraphicFramePr>
          <p:xfrm>
            <a:off x="73080" y="1190520"/>
            <a:ext cx="9085320" cy="53406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3080" y="1190520"/>
                      <a:ext cx="9085320" cy="534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2" name=""/>
            <p:cNvSpPr/>
            <p:nvPr/>
          </p:nvSpPr>
          <p:spPr>
            <a:xfrm>
              <a:off x="-36360" y="6423120"/>
              <a:ext cx="274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Fuente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35280" y="-30240"/>
            <a:ext cx="6851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Verdana"/>
              </a:rPr>
              <a:t>Exportaciones Peruanas de Café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1960 – 2003 en Q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15920" y="1058760"/>
          <a:ext cx="8999640" cy="5415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920" y="1058760"/>
                    <a:ext cx="89996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8" name=""/>
          <p:cNvGrpSpPr/>
          <p:nvPr/>
        </p:nvGrpSpPr>
        <p:grpSpPr>
          <a:xfrm>
            <a:off x="7667640" y="4581360"/>
            <a:ext cx="1817640" cy="1440000"/>
            <a:chOff x="7667640" y="4581360"/>
            <a:chExt cx="1817640" cy="1440000"/>
          </a:xfrm>
        </p:grpSpPr>
        <p:sp>
          <p:nvSpPr>
            <p:cNvPr id="509" name=""/>
            <p:cNvSpPr/>
            <p:nvPr/>
          </p:nvSpPr>
          <p:spPr>
            <a:xfrm>
              <a:off x="7885080" y="4797360"/>
              <a:ext cx="1600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Cafés </a:t>
              </a:r>
              <a:br>
                <a:rPr sz="1200"/>
              </a:b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Especial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67640" y="4581360"/>
              <a:ext cx="1341360" cy="1440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-6480" y="6575400"/>
            <a:ext cx="25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Cámara Peruana de Café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979640" y="0"/>
            <a:ext cx="716436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XPORTACION DE PAPRIKA EN KG Y PRECIOS REFERENCIALES FOB US$/KG AÑOS 2002, 2003 Y 2004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117360" y="915840"/>
            <a:ext cx="8966160" cy="5895360"/>
            <a:chOff x="117360" y="915840"/>
            <a:chExt cx="8966160" cy="5895360"/>
          </a:xfrm>
        </p:grpSpPr>
        <p:graphicFrame>
          <p:nvGraphicFramePr>
            <p:cNvPr id="518" name=""/>
            <p:cNvGraphicFramePr/>
            <p:nvPr/>
          </p:nvGraphicFramePr>
          <p:xfrm>
            <a:off x="117360" y="915840"/>
            <a:ext cx="8966160" cy="533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17360" y="915840"/>
                      <a:ext cx="8966160" cy="533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0" name=""/>
            <p:cNvSpPr/>
            <p:nvPr/>
          </p:nvSpPr>
          <p:spPr>
            <a:xfrm>
              <a:off x="136440" y="6504120"/>
              <a:ext cx="534996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ente: ADEX – ADUANAS           *Datos hasta jul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277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XPORTACIONES TOTALES POR M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(Millones US$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0240" y="1197000"/>
            <a:ext cx="9055080" cy="5477040"/>
            <a:chOff x="30240" y="1197000"/>
            <a:chExt cx="9055080" cy="5477040"/>
          </a:xfrm>
        </p:grpSpPr>
        <p:graphicFrame>
          <p:nvGraphicFramePr>
            <p:cNvPr id="342" name=""/>
            <p:cNvGraphicFramePr/>
            <p:nvPr/>
          </p:nvGraphicFramePr>
          <p:xfrm>
            <a:off x="30240" y="1322280"/>
            <a:ext cx="9055080" cy="4896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240" y="1322280"/>
                      <a:ext cx="9055080" cy="489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4" name=""/>
            <p:cNvSpPr/>
            <p:nvPr/>
          </p:nvSpPr>
          <p:spPr>
            <a:xfrm>
              <a:off x="128160" y="6215040"/>
              <a:ext cx="2358360" cy="4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Julio 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Verdana"/>
                </a:rPr>
                <a:t>Fuente:  BCR-PROMPEX - 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200" y="1197000"/>
              <a:ext cx="768060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99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ffcc00"/>
                  </a:solidFill>
                  <a:latin typeface="Arial"/>
                </a:rPr>
                <a:t>1993     1994    1995     1996    1997    1998    1999     2000     2001    2002    200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160" y="1584360"/>
              <a:ext cx="7892280" cy="30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</a:rPr>
                <a:t>$3,516    $4,598   $5,589    $5,898   $6,832    $5,757   $6,113    $7,024  $7,108   </a:t>
              </a:r>
              <a:r>
                <a:rPr b="1" lang="es-ES_tradnl" sz="1400" spc="-1" strike="noStrike">
                  <a:solidFill>
                    <a:srgbClr val="ffcc00"/>
                  </a:solidFill>
                  <a:latin typeface="Arial"/>
                  <a:ea typeface="Arial"/>
                </a:rPr>
                <a:t>$7,688    $8,95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2340000" y="-171360"/>
            <a:ext cx="658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EXPORTACIONES DE PAPRIKA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P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OR PAIS DE DESTINO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,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AÑOS 1999, 2000, 2001, 2002, 2003 Y 2004*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E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N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-1800" y="914400"/>
            <a:ext cx="9122040" cy="5840640"/>
            <a:chOff x="-1800" y="914400"/>
            <a:chExt cx="9122040" cy="5840640"/>
          </a:xfrm>
        </p:grpSpPr>
        <p:sp>
          <p:nvSpPr>
            <p:cNvPr id="523" name=""/>
            <p:cNvSpPr/>
            <p:nvPr/>
          </p:nvSpPr>
          <p:spPr>
            <a:xfrm>
              <a:off x="-1800" y="6296040"/>
              <a:ext cx="2032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(*) Hasta Julio</a:t>
              </a:r>
              <a:br>
                <a:rPr sz="1200"/>
              </a:b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Fuente: ADEX - A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24" name=""/>
            <p:cNvGraphicFramePr/>
            <p:nvPr/>
          </p:nvGraphicFramePr>
          <p:xfrm>
            <a:off x="82440" y="914400"/>
            <a:ext cx="9037800" cy="546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2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" y="914400"/>
                      <a:ext cx="9037800" cy="546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52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79640" y="-162360"/>
            <a:ext cx="7021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LCACHOFA EN CONSER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1999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0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2, 2003 Y 2004*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-2520" y="1039680"/>
            <a:ext cx="9002160" cy="5801040"/>
            <a:chOff x="-2520" y="1039680"/>
            <a:chExt cx="9002160" cy="5801040"/>
          </a:xfrm>
        </p:grpSpPr>
        <p:graphicFrame>
          <p:nvGraphicFramePr>
            <p:cNvPr id="531" name=""/>
            <p:cNvGraphicFramePr/>
            <p:nvPr/>
          </p:nvGraphicFramePr>
          <p:xfrm>
            <a:off x="0" y="1039680"/>
            <a:ext cx="8999640" cy="5197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3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39680"/>
                      <a:ext cx="8999640" cy="5197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3" name=""/>
            <p:cNvSpPr/>
            <p:nvPr/>
          </p:nvSpPr>
          <p:spPr>
            <a:xfrm>
              <a:off x="71640" y="6262560"/>
              <a:ext cx="207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X - 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 A</a:t>
              </a:r>
              <a:r>
                <a:rPr b="0" lang="es-MX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-2520" y="6564240"/>
              <a:ext cx="184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Arial"/>
                </a:rPr>
                <a:t>(*) Preliminar hasta Juli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35" name="" descr=""/>
          <p:cNvPicPr/>
          <p:nvPr/>
        </p:nvPicPr>
        <p:blipFill>
          <a:blip r:embed="rId4"/>
          <a:stretch/>
        </p:blipFill>
        <p:spPr>
          <a:xfrm>
            <a:off x="7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123640" y="1155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ERU: EXPORTACION DE MANTECA DE CACAO  POR PAIS DE DESTINO EN TM AÑOS 1998 – 2003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4640" y="1033560"/>
            <a:ext cx="8921880" cy="5816880"/>
            <a:chOff x="134640" y="1033560"/>
            <a:chExt cx="8921880" cy="5816880"/>
          </a:xfrm>
        </p:grpSpPr>
        <p:graphicFrame>
          <p:nvGraphicFramePr>
            <p:cNvPr id="539" name=""/>
            <p:cNvGraphicFramePr/>
            <p:nvPr/>
          </p:nvGraphicFramePr>
          <p:xfrm>
            <a:off x="160200" y="1033560"/>
            <a:ext cx="8896320" cy="5232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0200" y="1033560"/>
                      <a:ext cx="8896320" cy="523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1" name=""/>
            <p:cNvSpPr/>
            <p:nvPr/>
          </p:nvSpPr>
          <p:spPr>
            <a:xfrm>
              <a:off x="134640" y="6573960"/>
              <a:ext cx="200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Verdana"/>
                </a:rPr>
                <a:t>Fuente: ADUANAS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79280" y="43920"/>
            <a:ext cx="709308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CACAO EN GRANO: PRECIO NACIONAL EN CHACRA Y PRECIO INTERNACIONAL (US$ / LIBRA) AÑOS 1993 –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40" y="836640"/>
            <a:ext cx="9112320" cy="6154920"/>
            <a:chOff x="1440" y="836640"/>
            <a:chExt cx="9112320" cy="6154920"/>
          </a:xfrm>
        </p:grpSpPr>
        <p:graphicFrame>
          <p:nvGraphicFramePr>
            <p:cNvPr id="546" name=""/>
            <p:cNvGraphicFramePr/>
            <p:nvPr/>
          </p:nvGraphicFramePr>
          <p:xfrm>
            <a:off x="1440" y="836640"/>
            <a:ext cx="9112320" cy="5472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4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0" y="836640"/>
                      <a:ext cx="9112320" cy="547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8" name=""/>
            <p:cNvSpPr/>
            <p:nvPr/>
          </p:nvSpPr>
          <p:spPr>
            <a:xfrm>
              <a:off x="1440" y="6107040"/>
              <a:ext cx="1819080" cy="8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Fuentes: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Internacional : IC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ffff"/>
                  </a:solidFill>
                  <a:latin typeface="Arial"/>
                </a:rPr>
                <a:t>Precio Nacional : MINAG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4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664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Verdana"/>
              </a:rPr>
              <a:t>PERU: ABASTECIMIENTO DE LECHE</a:t>
            </a:r>
            <a:br>
              <a:rPr sz="18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1993-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4920" y="773280"/>
            <a:ext cx="9112320" cy="6311160"/>
            <a:chOff x="34920" y="773280"/>
            <a:chExt cx="9112320" cy="6311160"/>
          </a:xfrm>
        </p:grpSpPr>
        <p:graphicFrame>
          <p:nvGraphicFramePr>
            <p:cNvPr id="555" name=""/>
            <p:cNvGraphicFramePr/>
            <p:nvPr/>
          </p:nvGraphicFramePr>
          <p:xfrm>
            <a:off x="34920" y="773280"/>
            <a:ext cx="9112320" cy="5673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73280"/>
                      <a:ext cx="9112320" cy="567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57" name=""/>
            <p:cNvSpPr/>
            <p:nvPr/>
          </p:nvSpPr>
          <p:spPr>
            <a:xfrm>
              <a:off x="178560" y="6564240"/>
              <a:ext cx="250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 / ADUAN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5280" y="-90720"/>
            <a:ext cx="730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RODUCCION NACIONAL DE LECHE POR PRINCIPALES DEPARTAMENTOS   1990 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1440" y="907920"/>
            <a:ext cx="9156960" cy="5923800"/>
            <a:chOff x="1440" y="907920"/>
            <a:chExt cx="9156960" cy="5923800"/>
          </a:xfrm>
        </p:grpSpPr>
        <p:graphicFrame>
          <p:nvGraphicFramePr>
            <p:cNvPr id="562" name=""/>
            <p:cNvGraphicFramePr/>
            <p:nvPr/>
          </p:nvGraphicFramePr>
          <p:xfrm>
            <a:off x="1440" y="907920"/>
            <a:ext cx="9156960" cy="5413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440" y="907920"/>
                      <a:ext cx="9156960" cy="541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4" name=""/>
            <p:cNvSpPr/>
            <p:nvPr/>
          </p:nvSpPr>
          <p:spPr>
            <a:xfrm>
              <a:off x="178560" y="6524640"/>
              <a:ext cx="1465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MINA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3960" y="765000"/>
            <a:ext cx="9140040" cy="6092280"/>
            <a:chOff x="3960" y="765000"/>
            <a:chExt cx="9140040" cy="6092280"/>
          </a:xfrm>
        </p:grpSpPr>
        <p:sp>
          <p:nvSpPr>
            <p:cNvPr id="566" name=""/>
            <p:cNvSpPr/>
            <p:nvPr/>
          </p:nvSpPr>
          <p:spPr>
            <a:xfrm>
              <a:off x="3960" y="6519960"/>
              <a:ext cx="158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"/>
                </a:rPr>
                <a:t>Fuente: MINA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67" name=""/>
            <p:cNvGraphicFramePr/>
            <p:nvPr/>
          </p:nvGraphicFramePr>
          <p:xfrm>
            <a:off x="31680" y="1262160"/>
            <a:ext cx="9033120" cy="5214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680" y="1262160"/>
                      <a:ext cx="9033120" cy="521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9" name=""/>
            <p:cNvSpPr/>
            <p:nvPr/>
          </p:nvSpPr>
          <p:spPr>
            <a:xfrm>
              <a:off x="7391520" y="765000"/>
              <a:ext cx="1752480" cy="1067040"/>
            </a:xfrm>
            <a:prstGeom prst="flowChartAlternateProcess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8058600" y="85572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80360" y="105408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244000" y="1054080"/>
              <a:ext cx="90000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03,8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1,213,7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gt; 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692000" y="-162360"/>
            <a:ext cx="6551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LECHE: PRODUCCION NACIONAL (TM) Y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ECIOS ESTABLO (US$ / KG) ene 02 – jul  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9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24000" y="-171720"/>
            <a:ext cx="65628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PAPA: Precios y volúmenes suministrados al Mercado Mayorista de Lima 2002, 2003 y 20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-5760" y="836640"/>
            <a:ext cx="9282960" cy="6023880"/>
            <a:chOff x="-5760" y="836640"/>
            <a:chExt cx="9282960" cy="6023880"/>
          </a:xfrm>
        </p:grpSpPr>
        <p:sp>
          <p:nvSpPr>
            <p:cNvPr id="578" name=""/>
            <p:cNvSpPr/>
            <p:nvPr/>
          </p:nvSpPr>
          <p:spPr>
            <a:xfrm>
              <a:off x="-5760" y="6340320"/>
              <a:ext cx="264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OTA:  Precio de Papa Blan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EMMS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79" name=""/>
            <p:cNvGraphicFramePr/>
            <p:nvPr/>
          </p:nvGraphicFramePr>
          <p:xfrm>
            <a:off x="0" y="1052640"/>
            <a:ext cx="9277200" cy="5329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8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052640"/>
                      <a:ext cx="9277200" cy="532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1" name=""/>
            <p:cNvSpPr/>
            <p:nvPr/>
          </p:nvSpPr>
          <p:spPr>
            <a:xfrm>
              <a:off x="7362720" y="83664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974720" y="912960"/>
              <a:ext cx="3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TM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315200" y="1141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Año - 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Variación %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380080" y="1081080"/>
              <a:ext cx="7354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80,9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462,8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Arial"/>
                </a:rPr>
                <a:t>&lt; 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1600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otencial de Negocios en Cajamarc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0920" y="864720"/>
            <a:ext cx="8820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aina de Tara 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SOUTH AMERICAN TANNING CORP SAC, CEDEPAS - ACOPIADORES LOCALES,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TRASFORMADORA AGRICOLA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olvo de Tara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SOCIACION CIVIL "TIERRA" MOLINO SAN MARCOS, AGRO EXPORT CAJAMARCA S.A.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ng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VITESA SRL, EMPRESA DE PRODUCTORES DE MANGO EL PLATANAR S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Frijol Alubi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MISION DE REGANTES MAGDALENA,  CARE - AGRICULTORES CONDEBAMBA,  ASOCIACION BENEFICA PRISM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,  CARE - CAJAMAR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Lentej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DRA PROD. LENTEJA CAJABAMB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EDEPAS - LA LIBERTAD,  AGRONEGOCIOS Y CONSULTORES SRL,  CEDEPAS CAJAMARCA - PRODUCTORES 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LCACHOF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Ques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PRODUCTOS LACTEOS LOS PINOS SRL,  ASOCIACION DE PRODUCTORES LACTEOS LOS CAMPESINO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EMPRESA DE ALIMENTOS HUACAR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Madera Aserradas y Rolliza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OOPERATIVA AGRARIA JERUSALEN - ADEF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adenas de Oro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CHARPAS SA,  DE ORO S.A.,  AUX S.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Textiles</a:t>
            </a:r>
            <a:br>
              <a:rPr sz="1200"/>
            </a:b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s-ES" sz="1200" spc="-1" strike="noStrike">
                <a:solidFill>
                  <a:srgbClr val="ffffff"/>
                </a:solidFill>
                <a:latin typeface="Verdana"/>
              </a:rPr>
              <a:t>AMERICAN TRADING S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3780000" y="60930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351920" y="658332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9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3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7" dur="5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1" dur="5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5" dur="5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500"/>
                            </p:stCondLst>
                            <p:childTnLst>
                              <p:par>
                                <p:cTn id="39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9" dur="5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000"/>
                            </p:stCondLst>
                            <p:childTnLst>
                              <p:par>
                                <p:cTn id="40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3" dur="500"/>
                                        <p:tgtEl>
                                          <p:spTgt spid="5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7" dur="500"/>
                                        <p:tgtEl>
                                          <p:spTgt spid="5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1" dur="500"/>
                                        <p:tgtEl>
                                          <p:spTgt spid="5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5" dur="500"/>
                                        <p:tgtEl>
                                          <p:spTgt spid="5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0"/>
                            </p:stCondLst>
                            <p:childTnLst>
                              <p:par>
                                <p:cTn id="41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1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60320" y="84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DE ORO</a:t>
            </a:r>
            <a:br>
              <a:rPr sz="2800"/>
            </a:b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(Cadenas de Oro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08000" y="6539040"/>
            <a:ext cx="179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  <a:ea typeface="Arial"/>
              </a:rPr>
              <a:t>Fuente: Proyecto 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871640" y="2116080"/>
            <a:ext cx="5399280" cy="384516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"/>
          <p:cNvGrpSpPr/>
          <p:nvPr/>
        </p:nvGrpSpPr>
        <p:grpSpPr>
          <a:xfrm>
            <a:off x="168120" y="838080"/>
            <a:ext cx="8967960" cy="6021720"/>
            <a:chOff x="168120" y="838080"/>
            <a:chExt cx="8967960" cy="6021720"/>
          </a:xfrm>
        </p:grpSpPr>
        <p:sp>
          <p:nvSpPr>
            <p:cNvPr id="348" name=""/>
            <p:cNvSpPr/>
            <p:nvPr/>
          </p:nvSpPr>
          <p:spPr>
            <a:xfrm>
              <a:off x="168120" y="6400800"/>
              <a:ext cx="234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*2004 es preliminar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uente: BCR-PROMPEX-ADEX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182520" y="838080"/>
            <a:ext cx="89535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82520" y="838080"/>
                      <a:ext cx="89535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08000" y="-100440"/>
            <a:ext cx="72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PERU: EXPORTACION POR SECTORES ECONOMICOS</a:t>
            </a:r>
            <a:br>
              <a:rPr sz="1600"/>
            </a:b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 1990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2004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s-PE" sz="1600" spc="-1" strike="noStrike">
                <a:solidFill>
                  <a:srgbClr val="ffffff"/>
                </a:solidFill>
                <a:latin typeface="Verdana"/>
              </a:rPr>
              <a:t>Millones US$ FOB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153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2692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SOCIACION CIVIL “TIERRA” MOLINO SAN MARCOS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(Tara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0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553440" cy="33350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228600" y="2997360"/>
            <a:ext cx="8915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Verdana"/>
                <a:ea typeface="Arial"/>
              </a:rPr>
              <a:t>¡Sí se pued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9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2920" y="-100440"/>
            <a:ext cx="72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ERU: EXPORTACIONES AGROPECUARIAS POR PRODUCTO</a:t>
            </a:r>
            <a:br>
              <a:rPr sz="1600"/>
            </a:b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1990-200</a:t>
            </a: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4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 (Millones US$ FOB)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81492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5760" y="836640"/>
            <a:ext cx="8948880" cy="5748480"/>
            <a:chOff x="185760" y="836640"/>
            <a:chExt cx="8948880" cy="5748480"/>
          </a:xfrm>
        </p:grpSpPr>
        <p:sp>
          <p:nvSpPr>
            <p:cNvPr id="358" name=""/>
            <p:cNvSpPr/>
            <p:nvPr/>
          </p:nvSpPr>
          <p:spPr>
            <a:xfrm>
              <a:off x="331920" y="6308640"/>
              <a:ext cx="39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Fuente:</a:t>
              </a:r>
              <a:r>
                <a:rPr b="1" lang="es-MX" sz="1200" spc="-1" strike="noStrike">
                  <a:solidFill>
                    <a:srgbClr val="ffffff"/>
                  </a:solidFill>
                  <a:latin typeface="Verdana"/>
                </a:rPr>
                <a:t> ADEX – PROMPEX -</a:t>
              </a: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 ADUANAS-MINAG-BCR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59" name=""/>
            <p:cNvGraphicFramePr/>
            <p:nvPr/>
          </p:nvGraphicFramePr>
          <p:xfrm>
            <a:off x="185760" y="836640"/>
            <a:ext cx="8948880" cy="552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5760" y="836640"/>
                      <a:ext cx="894888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400" y="1104840"/>
            <a:ext cx="9053280" cy="5566680"/>
            <a:chOff x="14400" y="1104840"/>
            <a:chExt cx="9053280" cy="5566680"/>
          </a:xfrm>
        </p:grpSpPr>
        <p:graphicFrame>
          <p:nvGraphicFramePr>
            <p:cNvPr id="362" name=""/>
            <p:cNvGraphicFramePr/>
            <p:nvPr/>
          </p:nvGraphicFramePr>
          <p:xfrm>
            <a:off x="133200" y="1104840"/>
            <a:ext cx="8934480" cy="5295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3200" y="1104840"/>
                      <a:ext cx="8934480" cy="529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4400" y="6364440"/>
              <a:ext cx="4708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400" spc="-1" strike="noStrike">
                  <a:solidFill>
                    <a:srgbClr val="ffffff"/>
                  </a:solidFill>
                  <a:latin typeface="Arial"/>
                </a:rPr>
                <a:t>Fuente: ADEX – PROMPEX - ADUANAS - MINAG - BC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979640" y="44280"/>
            <a:ext cx="7164360" cy="72612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PERU: PRINCIPALES IMPORTACIONES AGROPECUARIAS  </a:t>
            </a:r>
            <a:br>
              <a:rPr sz="1600"/>
            </a:b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- 2004 (Millones US$ CIF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sh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0" y="907920"/>
          <a:ext cx="8972640" cy="554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7920"/>
                    <a:ext cx="8972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-5040" y="6340320"/>
            <a:ext cx="2134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* Datos al mes de jun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Arial"/>
              </a:rPr>
              <a:t>Fuente:  M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411280" y="-76680"/>
            <a:ext cx="627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PRODUCCION DE </a:t>
            </a: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ORO POR PRINCIPALES EMPRESAS 1991-2004* </a:t>
            </a: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(TMF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VOLUCION DEL PRECIO DEL ORO </a:t>
            </a:r>
            <a:br>
              <a:rPr sz="20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97 – Ago 04  (US$/OZ.TRO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-2160" y="990720"/>
            <a:ext cx="9241560" cy="5893200"/>
            <a:chOff x="-2160" y="990720"/>
            <a:chExt cx="9241560" cy="5893200"/>
          </a:xfrm>
        </p:grpSpPr>
        <p:sp>
          <p:nvSpPr>
            <p:cNvPr id="378" name=""/>
            <p:cNvSpPr/>
            <p:nvPr/>
          </p:nvSpPr>
          <p:spPr>
            <a:xfrm>
              <a:off x="-2160" y="6576840"/>
              <a:ext cx="333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Fuente:  LONDON METAL EXCHANG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379" name=""/>
            <p:cNvGraphicFramePr/>
            <p:nvPr/>
          </p:nvGraphicFramePr>
          <p:xfrm>
            <a:off x="76320" y="990720"/>
            <a:ext cx="9163080" cy="48196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3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990720"/>
                      <a:ext cx="9163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1" name=""/>
            <p:cNvSpPr/>
            <p:nvPr/>
          </p:nvSpPr>
          <p:spPr>
            <a:xfrm>
              <a:off x="929160" y="1285920"/>
              <a:ext cx="801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1997           1998          1999            2000           2001           2002           2003         200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2712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L VALOR AGREGADO DE LA MIN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1273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7c80">
              <a:alpha val="5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641920" y="466560"/>
            <a:ext cx="1463760" cy="23508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58680 h 235080"/>
              <a:gd name="textAreaBottom" fmla="*/ 176400 h 23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519640" y="2826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6520" y="260280"/>
            <a:ext cx="6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(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468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-720" y="746280"/>
            <a:ext cx="9179640" cy="6337440"/>
            <a:chOff x="-720" y="746280"/>
            <a:chExt cx="9179640" cy="6337440"/>
          </a:xfrm>
        </p:grpSpPr>
        <p:sp>
          <p:nvSpPr>
            <p:cNvPr id="389" name=""/>
            <p:cNvSpPr/>
            <p:nvPr/>
          </p:nvSpPr>
          <p:spPr>
            <a:xfrm>
              <a:off x="0" y="4002120"/>
              <a:ext cx="9144000" cy="2855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2.-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Reactivos, bolas 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acero, explosiv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288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657600" y="1554120"/>
              <a:ext cx="18288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Sustitu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de importacio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86400" y="1554120"/>
              <a:ext cx="3657600" cy="808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insum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3.-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(Carros mineros, celda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ffffff"/>
                  </a:solidFill>
                  <a:latin typeface="Arial"/>
                </a:rPr>
                <a:t>de flotación, molin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288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Reparación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57600" y="2362320"/>
              <a:ext cx="18288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Producción baj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licencias pa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rcados loc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86400" y="2362320"/>
              <a:ext cx="3657600" cy="807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 de maquinar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0" y="3170160"/>
              <a:ext cx="18288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4.- Ingenie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y consultorí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49320" y="3184560"/>
              <a:ext cx="1828800" cy="807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Importad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99360" y="3182760"/>
              <a:ext cx="184464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Expor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57600" y="3182760"/>
              <a:ext cx="3657600" cy="808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Nacional (salvo especialidade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4272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463860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0" y="5373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0" y="574056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0" y="61070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0" y="500544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-720" y="4040280"/>
              <a:ext cx="112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5.- Entor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560" y="4368960"/>
              <a:ext cx="756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nergí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200" y="5079960"/>
              <a:ext cx="747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Puert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0280" y="5433840"/>
              <a:ext cx="9763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Urbanism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840" y="5815080"/>
              <a:ext cx="76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Vialidad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560" y="6181560"/>
              <a:ext cx="9946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Educación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07160" y="4356000"/>
              <a:ext cx="18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28800" y="4272120"/>
              <a:ext cx="0" cy="22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600" y="4292640"/>
              <a:ext cx="61059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G. Electrógenos            C. Hidroeléctricas             Interconexión eléctrica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840" y="4699080"/>
              <a:ext cx="564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Agua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657600" y="4272120"/>
              <a:ext cx="0" cy="25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6400" y="427212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969200" y="4660920"/>
              <a:ext cx="4889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Sist. de bombeo                                   Redes de agua regional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920960" y="5027760"/>
              <a:ext cx="50911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Puertos múltiples                             Puertos mineros especializado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22480" y="5384880"/>
              <a:ext cx="71215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mpamentos              Desarrollos urbanos                        Integración urbana regional   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06520" y="5751360"/>
              <a:ext cx="5959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Trochas                   Carreteras afirmadas                      Integración vial nacional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21400" y="6118200"/>
              <a:ext cx="6645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Capacit. Laboral             Escuelas técnicas                          Universidades especializada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24480" y="5373720"/>
              <a:ext cx="0" cy="36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24480" y="5740560"/>
              <a:ext cx="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24480" y="6107040"/>
              <a:ext cx="0" cy="75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1.- Produc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Min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288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iner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57600" y="746280"/>
              <a:ext cx="18288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Concentr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86400" y="746280"/>
              <a:ext cx="3657600" cy="80784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etales refinad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8800" y="746280"/>
              <a:ext cx="0" cy="6111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920" y="6448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960" y="6507000"/>
              <a:ext cx="1369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300" spc="-1" strike="noStrike">
                  <a:solidFill>
                    <a:srgbClr val="ffffff"/>
                  </a:solidFill>
                  <a:latin typeface="Arial"/>
                </a:rPr>
                <a:t>Medio Ambiente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72360" y="6197760"/>
              <a:ext cx="277164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Mejoramiento (revegetación,                                                                                                reforestación, etc.)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50920" y="6522480"/>
              <a:ext cx="3924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300" spc="-1" strike="noStrike">
                  <a:solidFill>
                    <a:srgbClr val="ffffff"/>
                  </a:solidFill>
                  <a:latin typeface="Arial"/>
                </a:rPr>
                <a:t>Impacto negativo           Mínimo impacto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332000" y="155520"/>
            <a:ext cx="7315200" cy="8240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PERU: ARRIBOS DE EXTRANJER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(Miles de persona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2880" y="765000"/>
            <a:ext cx="9099720" cy="6027840"/>
            <a:chOff x="2880" y="765000"/>
            <a:chExt cx="9099720" cy="6027840"/>
          </a:xfrm>
        </p:grpSpPr>
        <p:sp>
          <p:nvSpPr>
            <p:cNvPr id="441" name=""/>
            <p:cNvSpPr/>
            <p:nvPr/>
          </p:nvSpPr>
          <p:spPr>
            <a:xfrm>
              <a:off x="2880" y="6394320"/>
              <a:ext cx="1647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Fuente: MITINCI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aboración: </a:t>
              </a:r>
              <a:r>
                <a:rPr b="0" i="1" lang="en-US" sz="1000" spc="-1" strike="noStrike">
                  <a:solidFill>
                    <a:srgbClr val="ffffff"/>
                  </a:solidFill>
                  <a:latin typeface="Times New Roman"/>
                </a:rPr>
                <a:t>inform@cció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442" name=""/>
            <p:cNvGraphicFramePr/>
            <p:nvPr/>
          </p:nvGraphicFramePr>
          <p:xfrm>
            <a:off x="34920" y="765000"/>
            <a:ext cx="9067680" cy="531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4920" y="765000"/>
                      <a:ext cx="9067680" cy="531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4" name=""/>
            <p:cNvSpPr/>
            <p:nvPr/>
          </p:nvSpPr>
          <p:spPr>
            <a:xfrm>
              <a:off x="34920" y="5734080"/>
              <a:ext cx="487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NOTA: Se considera arribos al ingreso de personas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con pasaporte extranjer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200" spc="-1" strike="noStrike">
                  <a:solidFill>
                    <a:srgbClr val="ffffff"/>
                  </a:solidFill>
                  <a:latin typeface="Arial"/>
                </a:rPr>
                <a:t>(*) Dato estimado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09:43:22Z</dcterms:created>
  <dc:creator>JOSE GROSSO</dc:creator>
  <dc:description/>
  <dc:language>en-US</dc:language>
  <cp:lastModifiedBy>jore</cp:lastModifiedBy>
  <cp:lastPrinted>2000-04-03T20:20:19Z</cp:lastPrinted>
  <dcterms:modified xsi:type="dcterms:W3CDTF">2004-09-06T15:18:03Z</dcterms:modified>
  <cp:revision>1179</cp:revision>
  <dc:subject/>
  <dc:title>Sin título de diapositiva</dc:title>
</cp:coreProperties>
</file>